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6DA-C270-47E7-B27E-86715CA9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E6DD-2C43-48B0-887C-2D354569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651-2103-418A-8339-801F748E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4AD5-CA4C-4111-AD00-360EBD23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372-7811-4E67-BC47-A6B4C675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BA9F-564F-4B35-96CE-E3A69FB5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CF95-92B1-44BE-9781-BD78E230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DCE-0E3B-453D-B48D-AD86BCA3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CAB-009D-4108-9245-FB5DF976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6BAD-C23C-4E38-9C24-4F50E68C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5B46-A0DE-4889-8543-A6D3C4E9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F038-434A-4620-AFDB-87573830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964D-84AA-4E2D-AE92-BA3DBC57DB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5160" y="2209680"/>
            <a:ext cx="699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hat Can Be D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bout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2392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7010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2600280"/>
            <a:ext cx="7696080" cy="2886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69608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71480" y="838080"/>
            <a:ext cx="48610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algebra,  can go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34360" y="2427120"/>
            <a:ext cx="5158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981080" y="3581280"/>
            <a:ext cx="5257800" cy="1447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105520" y="4648320"/>
            <a:ext cx="28191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620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924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81680" y="571500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2:41Z</dcterms:modified>
  <cp:revision>210</cp:revision>
  <dc:subject/>
  <dc:title>Slide 1</dc:title>
</cp:coreProperties>
</file>